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8.png" ContentType="image/png"/>
  <Override PartName="/ppt/media/image23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7.jpeg" ContentType="image/jpeg"/>
  <Override PartName="/ppt/media/image28.png" ContentType="image/png"/>
  <Override PartName="/ppt/media/image31.png" ContentType="image/png"/>
  <Override PartName="/ppt/media/image32.png" ContentType="image/png"/>
  <Override PartName="/ppt/media/image34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2.png" ContentType="image/png"/>
  <Override PartName="/ppt/media/image6.wmf" ContentType="image/x-wmf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339-89A7-448E-8868-A03F8B4A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040-7D7B-4658-A4CB-AAD736BD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BBC-EFCA-4954-9D76-C4513A5E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299-047E-4578-A936-8F87BAE8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21E5-D919-4155-A437-BED19390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203F-A7A4-4908-B302-E11E51FE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C8C7-3E6C-4E1C-A1C1-1A8EDFCF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5E4B-2781-4FD7-9091-24ECBD17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A02A-A61B-499B-9330-E1B2E1A0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5B8B-EE17-4F4F-B75A-6EB587FD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881E-93E8-453E-B1BC-B90440D9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072-C0B1-4B6F-9FB0-3315E3AD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236A-331A-47C7-B9FE-14355543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22D4-CA93-4DF1-8FA9-32B35B7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CD15-C437-4843-B747-A7DFA887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075C-7569-4997-AB4C-A12550BE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3C71-AAD3-4940-B200-D9EB1558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9A85-A58C-4EAB-8D4D-AB82CD89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0FA7B-6F2E-4BA6-A86E-9F8819F9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C3B6-0313-4A8F-B7F4-A50BF943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A4F3F-5DEE-47A7-A1EE-43ECDF9E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6589-5394-4AF1-AC73-BC1D9A94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442-4252-4CA0-A6D2-A69ED393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79B4-9177-4CEF-9521-A34DF264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FAF6-78CF-4625-BD8A-4E552E58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BD9F-8FC5-4984-BCD4-B50C835A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9260-E300-41DF-9304-16FDC1F4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146E-CF30-4CE9-B62A-092A0399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3AEE8-3B31-4ABF-B38A-2386E1BE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F242-4177-44BC-A2C3-D3290790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15E57-4F07-4E7A-AC8F-1BA13CB3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DB65B-6546-46CC-8389-FE054C19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E0E80-3AED-49D2-894F-5571800F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63E-48CC-4000-BD2A-E9A9F358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BD01-DEB0-4BBA-81F0-A67D5FEB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3C86E-92AA-434D-AAA5-1B1826C6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CB0EE-F0A8-4C28-8BA4-A417239A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F9C7-4CEE-49D7-9D08-DCBE73D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79DF8-87CF-4DB6-9293-7687873C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63666-C5A9-42FD-9970-F3267697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B676C-BBF1-4488-97C6-EBE96173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5F20-6FD6-467D-B560-A644EC50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E094E-2265-49CB-80C3-71439A67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2AD2-469F-4FD5-B6B8-C00DC145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6DB-B8B5-47C8-8C2E-08BE5667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B440A-C490-4073-8AF3-66266A58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02735-132C-44FE-A10C-B8A0CB08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D234F-DA1E-4D47-A193-FA0786F1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998AB-6F62-4ABD-8634-C8940A3E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2DED3-040E-4F1C-835D-8E1B9D19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F7087-F4C3-4861-BE56-CA898DA1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6C94A-098A-408A-A2D5-61AB65CD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DA048-0279-47E2-881B-FE435789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32C3D-2E2A-46CA-A292-47E7FFBD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D566A-65FA-4D2D-908F-B6DCE7A5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7A9-990E-484C-BE05-3AB4007D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BEFC-C94D-4459-819C-9D8E9AD3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02B-2131-4A51-BD24-D15D4B37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11B-5B88-4875-BDEC-739AB88A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3FF-0B33-4E47-A7C6-17E4C588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992D-9820-4174-B770-0CE7BAEFBD1D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1F79-B1E1-4C7B-B438-274FD988CC77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d3641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FADB-1E35-4986-B308-0D28A1F2B605}" type="slidenum">
              <a:rPr b="0" lang="es-MX" sz="1200" spc="-1" strike="noStrike">
                <a:solidFill>
                  <a:srgbClr val="1d3641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093F-D988-436B-92AC-C296A3C90128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BAC9-1AF8-4CBA-8797-814285F9295D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3 Título" descr=""/>
          <p:cNvPicPr/>
          <p:nvPr/>
        </p:nvPicPr>
        <p:blipFill>
          <a:blip r:embed="rId1"/>
          <a:stretch/>
        </p:blipFill>
        <p:spPr>
          <a:xfrm>
            <a:off x="1116000" y="-128520"/>
            <a:ext cx="6997680" cy="2006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Users\ch@rmin\AppData\Local\Microsoft\Windows\Temporary Internet Files\Content.IE5\A2RJIVVW\MP900433365[1].jpg"/>
          <p:cNvPicPr/>
          <p:nvPr/>
        </p:nvPicPr>
        <p:blipFill>
          <a:blip r:embed="rId2"/>
          <a:stretch/>
        </p:blipFill>
        <p:spPr>
          <a:xfrm>
            <a:off x="1116000" y="1197000"/>
            <a:ext cx="6959520" cy="4621320"/>
          </a:xfrm>
          <a:prstGeom prst="rect">
            <a:avLst/>
          </a:prstGeom>
          <a:ln w="0">
            <a:noFill/>
          </a:ln>
        </p:spPr>
      </p:pic>
      <p:sp>
        <p:nvSpPr>
          <p:cNvPr id="392" name="5 CuadroTexto"/>
          <p:cNvSpPr/>
          <p:nvPr/>
        </p:nvSpPr>
        <p:spPr>
          <a:xfrm>
            <a:off x="1116000" y="522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1" i="1" lang="es-MX" sz="2800" spc="-1" strike="noStrike">
                <a:solidFill>
                  <a:srgbClr val="ffffff"/>
                </a:solidFill>
                <a:latin typeface="Tw Cen MT"/>
              </a:rPr>
              <a:t>LA ÚNICA DIFERENCIA ENTRE UN BUEN DÍA Y UN MAL DÍA, ES LA ACTITUD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1 Título" descr=""/>
          <p:cNvPicPr/>
          <p:nvPr/>
        </p:nvPicPr>
        <p:blipFill>
          <a:blip r:embed="rId1"/>
          <a:stretch/>
        </p:blipFill>
        <p:spPr>
          <a:xfrm>
            <a:off x="291960" y="212760"/>
            <a:ext cx="8480520" cy="8539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2916000" y="1197000"/>
            <a:ext cx="58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ocer a través de una disciplina determinada, los contenidos que hay que enseñar su traducción de los objetivo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representaciones para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errores y obstáculos en el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struir y planificar dispositivos y secuencias did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 a los alumnos en las actividades de investigación, en proyectos de conocimient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8" name="Picture 2" descr="C:\Users\ch@rmin\AppData\Local\Microsoft\Windows\Temporary Internet Files\Content.IE5\P85A7GK5\MC900088884[1].wmf"/>
          <p:cNvPicPr/>
          <p:nvPr/>
        </p:nvPicPr>
        <p:blipFill>
          <a:blip r:embed="rId2"/>
          <a:stretch/>
        </p:blipFill>
        <p:spPr>
          <a:xfrm>
            <a:off x="412920" y="1484280"/>
            <a:ext cx="2282760" cy="1944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3"/>
          <a:stretch/>
        </p:blipFill>
        <p:spPr>
          <a:xfrm>
            <a:off x="603360" y="3645000"/>
            <a:ext cx="2047680" cy="2238120"/>
          </a:xfrm>
          <a:prstGeom prst="rect">
            <a:avLst/>
          </a:prstGeom>
          <a:ln w="0">
            <a:noFill/>
          </a:ln>
        </p:spPr>
      </p:pic>
      <p:sp>
        <p:nvSpPr>
          <p:cNvPr id="420" name="3 Flecha curvada hacia la izquierda"/>
          <p:cNvSpPr/>
          <p:nvPr/>
        </p:nvSpPr>
        <p:spPr>
          <a:xfrm>
            <a:off x="7956720" y="6021360"/>
            <a:ext cx="576000" cy="432000"/>
          </a:xfrm>
          <a:custGeom>
            <a:avLst/>
            <a:gdLst>
              <a:gd name="textAreaLeft" fmla="*/ 77040 w 576000"/>
              <a:gd name="textAreaRight" fmla="*/ 498960 w 576000"/>
              <a:gd name="textAreaTop" fmla="*/ 67320 h 432000"/>
              <a:gd name="textAreaBottom" fmla="*/ 3106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14921"/>
                <a:lnTo>
                  <a:pt x="4050" y="21480"/>
                </a:lnTo>
                <a:lnTo>
                  <a:pt x="0" y="16200"/>
                </a:lnTo>
                <a:lnTo>
                  <a:pt x="4050" y="10680"/>
                </a:lnTo>
                <a:lnTo>
                  <a:pt x="4050" y="13380"/>
                </a:lnTo>
                <a:arcTo wR="21600" hR="6750" stAng="3514921" swAng="-304893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6840" y="1196640"/>
            <a:ext cx="5267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cebir y hacer frente a situaciones problemáticas ajustadas al nivel y a las posibilidades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quirir una visión longitudinal de los problemas de la enseñanz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vínculos con la teorías que sostienen las actividade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bservar y evaluar a los alumnos en situaciones de aprendizaje según el enfoque de cada asignatur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controles periódicos de competencias y tomar decisiones de progresión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2" name="4 Rectángulo"/>
          <p:cNvSpPr/>
          <p:nvPr/>
        </p:nvSpPr>
        <p:spPr>
          <a:xfrm>
            <a:off x="1547640" y="439560"/>
            <a:ext cx="640908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2. Administrar la progresión de aprendizaje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078360" cy="3148200"/>
          </a:xfrm>
          <a:prstGeom prst="rect">
            <a:avLst/>
          </a:prstGeom>
          <a:ln w="0">
            <a:noFill/>
          </a:ln>
        </p:spPr>
      </p:pic>
      <p:sp>
        <p:nvSpPr>
          <p:cNvPr id="424" name="1 Flecha curvada hacia la izquierda"/>
          <p:cNvSpPr/>
          <p:nvPr/>
        </p:nvSpPr>
        <p:spPr>
          <a:xfrm>
            <a:off x="7956720" y="5950080"/>
            <a:ext cx="647640" cy="574560"/>
          </a:xfrm>
          <a:custGeom>
            <a:avLst/>
            <a:gdLst>
              <a:gd name="textAreaLeft" fmla="*/ 86760 w 647640"/>
              <a:gd name="textAreaRight" fmla="*/ 560880 w 647640"/>
              <a:gd name="textAreaTop" fmla="*/ 89640 h 574560"/>
              <a:gd name="textAreaBottom" fmla="*/ 412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33697"/>
                <a:lnTo>
                  <a:pt x="4800" y="21431"/>
                </a:lnTo>
                <a:lnTo>
                  <a:pt x="0" y="16200"/>
                </a:lnTo>
                <a:lnTo>
                  <a:pt x="4800" y="10631"/>
                </a:lnTo>
                <a:lnTo>
                  <a:pt x="4800" y="13331"/>
                </a:lnTo>
                <a:arcTo wR="21600" hR="6750" stAng="3233697" swAng="-276771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341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la heterogeneidad en el mismo grup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mpartimentar: extender la gestión de clase a un espacio más ampli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acticar un apoyo integrado: trabajar con alumnos con grandes dificultad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la cooperación entre alumnos y ciertas formas simples de enseñanza mutu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6" name="3 Rectángulo"/>
          <p:cNvSpPr/>
          <p:nvPr/>
        </p:nvSpPr>
        <p:spPr>
          <a:xfrm>
            <a:off x="324000" y="487440"/>
            <a:ext cx="856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3. Concebir y hacer evolucionar los dispositivos de diferenciac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420920" y="4352760"/>
            <a:ext cx="2908080" cy="2178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5076720" y="4352760"/>
            <a:ext cx="2735280" cy="2028960"/>
          </a:xfrm>
          <a:prstGeom prst="rect">
            <a:avLst/>
          </a:prstGeom>
          <a:ln w="0">
            <a:noFill/>
          </a:ln>
        </p:spPr>
      </p:pic>
      <p:sp>
        <p:nvSpPr>
          <p:cNvPr id="429" name="4 Flecha izquierda"/>
          <p:cNvSpPr/>
          <p:nvPr/>
        </p:nvSpPr>
        <p:spPr>
          <a:xfrm>
            <a:off x="8070840" y="6093000"/>
            <a:ext cx="576360" cy="288720"/>
          </a:xfrm>
          <a:prstGeom prst="leftArrow">
            <a:avLst>
              <a:gd name="adj1" fmla="val 50000"/>
              <a:gd name="adj2" fmla="val 499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3141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mentar el deseo de aprender, explicitar la relación con el conocimiento, el sentido del trabajo escolar y desarrollar la capacidad de auto-evaluación en el niñ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nstruir y hacer funcionar un consejo de alumnos y negociar con ellos varios tipos de reglas y acuerd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frecer actividades de formación opcionales, es decir, “ A la Carta”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avorecer la definición de un proyecto personal del alumn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1" name="3 Rectángulo"/>
          <p:cNvSpPr/>
          <p:nvPr/>
        </p:nvSpPr>
        <p:spPr>
          <a:xfrm>
            <a:off x="324000" y="353880"/>
            <a:ext cx="842472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4. Envolver a los alumnos en sus aprendizajes y en su trabajo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3105000" y="981000"/>
            <a:ext cx="2762280" cy="2114640"/>
          </a:xfrm>
          <a:prstGeom prst="rect">
            <a:avLst/>
          </a:prstGeom>
          <a:ln w="0">
            <a:noFill/>
          </a:ln>
        </p:spPr>
      </p:pic>
      <p:sp>
        <p:nvSpPr>
          <p:cNvPr id="433" name="4 Flecha curvada hacia la izquierda"/>
          <p:cNvSpPr/>
          <p:nvPr/>
        </p:nvSpPr>
        <p:spPr>
          <a:xfrm>
            <a:off x="8340840" y="5805360"/>
            <a:ext cx="407880" cy="432000"/>
          </a:xfrm>
          <a:custGeom>
            <a:avLst/>
            <a:gdLst>
              <a:gd name="textAreaLeft" fmla="*/ 54360 w 407880"/>
              <a:gd name="textAreaRight" fmla="*/ 353520 w 407880"/>
              <a:gd name="textAreaTop" fmla="*/ 69480 h 432000"/>
              <a:gd name="textAreaBottom" fmla="*/ 311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975" stAng="-5400000" swAng="5400000"/>
                <a:lnTo>
                  <a:pt x="21600" y="12075"/>
                </a:lnTo>
                <a:arcTo wR="21600" hR="6975" stAng="0" swAng="3081284"/>
                <a:lnTo>
                  <a:pt x="5400" y="21379"/>
                </a:lnTo>
                <a:lnTo>
                  <a:pt x="0" y="16500"/>
                </a:lnTo>
                <a:lnTo>
                  <a:pt x="5400" y="11179"/>
                </a:lnTo>
                <a:lnTo>
                  <a:pt x="5400" y="13729"/>
                </a:lnTo>
                <a:arcTo wR="21600" hR="6975" stAng="3081284" swAng="-2647571"/>
                <a:lnTo>
                  <a:pt x="20105" y="9525"/>
                </a:lnTo>
                <a:arcTo wR="21600" hR="6975" stAng="-433713" swAng="-4966287"/>
                <a:close/>
              </a:path>
              <a:path fill="darkenLess" w="21600" h="21600">
                <a:moveTo>
                  <a:pt x="0" y="0"/>
                </a:moveTo>
                <a:arcTo wR="21600" hR="6975" stAng="-5400000" swAng="5400000"/>
                <a:lnTo>
                  <a:pt x="21600" y="12075"/>
                </a:lnTo>
                <a:arcTo wR="21600" hR="6975" stAng="0" swAng="-433713"/>
                <a:lnTo>
                  <a:pt x="20105" y="9525"/>
                </a:lnTo>
                <a:arcTo wR="21600" hR="6975" stAng="-433713" swAng="-4966287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132000" y="1600200"/>
            <a:ext cx="5554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un proyecto de equipo de representaciones comun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ulsar un grupo de trabajo, dirigir reunion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rmar y renovar un equipo pedagógic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frontar y analizar conjuntamente situaciones complejas, prácticas y problemas profesion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crisis o conflictos entre person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5" name="3 Rectángulo"/>
          <p:cNvSpPr/>
          <p:nvPr/>
        </p:nvSpPr>
        <p:spPr>
          <a:xfrm>
            <a:off x="3635280" y="523800"/>
            <a:ext cx="4969080" cy="58140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w Cen MT"/>
              </a:rPr>
              <a:t>5. Trabajar en equipo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539640" y="108252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2548080" cy="2548080"/>
          </a:xfrm>
          <a:prstGeom prst="rect">
            <a:avLst/>
          </a:prstGeom>
          <a:ln w="0">
            <a:noFill/>
          </a:ln>
        </p:spPr>
      </p:pic>
      <p:sp>
        <p:nvSpPr>
          <p:cNvPr id="438" name="4 Flecha curvada hacia la izquierda"/>
          <p:cNvSpPr/>
          <p:nvPr/>
        </p:nvSpPr>
        <p:spPr>
          <a:xfrm>
            <a:off x="7885080" y="5877000"/>
            <a:ext cx="719280" cy="531720"/>
          </a:xfrm>
          <a:custGeom>
            <a:avLst/>
            <a:gdLst>
              <a:gd name="textAreaLeft" fmla="*/ 96120 w 719280"/>
              <a:gd name="textAreaRight" fmla="*/ 623160 w 719280"/>
              <a:gd name="textAreaTop" fmla="*/ 82800 h 531720"/>
              <a:gd name="textAreaBottom" fmla="*/ 38232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40058"/>
                <a:lnTo>
                  <a:pt x="3986" y="21484"/>
                </a:lnTo>
                <a:lnTo>
                  <a:pt x="0" y="16200"/>
                </a:lnTo>
                <a:lnTo>
                  <a:pt x="3986" y="10684"/>
                </a:lnTo>
                <a:lnTo>
                  <a:pt x="3986" y="13384"/>
                </a:lnTo>
                <a:arcTo wR="21600" hR="6750" stAng="3540058" swAng="-307407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41000"/>
            <a:ext cx="505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y negociar un proyecto instituciona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ministrar los recursos de la escuel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ordinar, fomentar una escuela con todos los componentes, (extraescolares, del barrio, asociaciones de padres de familia, profesores de lengua y cultura de orige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rganizar y hacer evolucionar, en la misma escuela, la participación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0" name="3 Rectángulo"/>
          <p:cNvSpPr/>
          <p:nvPr/>
        </p:nvSpPr>
        <p:spPr>
          <a:xfrm>
            <a:off x="755640" y="476280"/>
            <a:ext cx="756144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6. Participar en la administración de la escuel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5578560" y="1341360"/>
            <a:ext cx="3074760" cy="2190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2"/>
          <a:stretch/>
        </p:blipFill>
        <p:spPr>
          <a:xfrm>
            <a:off x="5578560" y="3855960"/>
            <a:ext cx="3082680" cy="2309760"/>
          </a:xfrm>
          <a:prstGeom prst="rect">
            <a:avLst/>
          </a:prstGeom>
          <a:ln w="0">
            <a:noFill/>
          </a:ln>
        </p:spPr>
      </p:pic>
      <p:sp>
        <p:nvSpPr>
          <p:cNvPr id="443" name="4 Flecha izquierda"/>
          <p:cNvSpPr/>
          <p:nvPr/>
        </p:nvSpPr>
        <p:spPr>
          <a:xfrm>
            <a:off x="4284720" y="6021360"/>
            <a:ext cx="718920" cy="36036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84200" y="783720"/>
            <a:ext cx="5338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Favorecer reuniones informativas y de debate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Dirigir la reunione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Implicar a los padres en la valoración de la construcción de los conocimiento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5" name="3 Rectángulo"/>
          <p:cNvSpPr/>
          <p:nvPr/>
        </p:nvSpPr>
        <p:spPr>
          <a:xfrm>
            <a:off x="484200" y="260280"/>
            <a:ext cx="5505480" cy="94716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7. Informar y envolver a los padre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4 Rectángulo"/>
          <p:cNvSpPr/>
          <p:nvPr/>
        </p:nvSpPr>
        <p:spPr>
          <a:xfrm>
            <a:off x="3363840" y="2709720"/>
            <a:ext cx="524988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8. Utilizar nuevas tecnología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2 Marcador de contenido"/>
          <p:cNvSpPr/>
          <p:nvPr/>
        </p:nvSpPr>
        <p:spPr>
          <a:xfrm>
            <a:off x="3111480" y="3232080"/>
            <a:ext cx="5853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“ </a:t>
            </a: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El deber de los profesores es integrarse en el universo de los alumnos”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programas de edición de los document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Explorar los potenciales didácticos de programas en relación con los objetivos de domini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Comunicarse a distancia a través de la telemática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instrumentos de multimedia en la enseñanza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6227640" y="4046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395280" y="3578400"/>
            <a:ext cx="2681280" cy="2601720"/>
          </a:xfrm>
          <a:prstGeom prst="rect">
            <a:avLst/>
          </a:prstGeom>
          <a:ln w="0">
            <a:noFill/>
          </a:ln>
        </p:spPr>
      </p:pic>
      <p:sp>
        <p:nvSpPr>
          <p:cNvPr id="450" name="6 Flecha curvada hacia la izquierda"/>
          <p:cNvSpPr/>
          <p:nvPr/>
        </p:nvSpPr>
        <p:spPr>
          <a:xfrm>
            <a:off x="8028000" y="6180120"/>
            <a:ext cx="585720" cy="344520"/>
          </a:xfrm>
          <a:custGeom>
            <a:avLst/>
            <a:gdLst>
              <a:gd name="textAreaLeft" fmla="*/ 78480 w 585720"/>
              <a:gd name="textAreaRight" fmla="*/ 507240 w 585720"/>
              <a:gd name="textAreaTop" fmla="*/ 53640 h 344520"/>
              <a:gd name="textAreaBottom" fmla="*/ 2476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870174"/>
                <a:lnTo>
                  <a:pt x="3184" y="21526"/>
                </a:lnTo>
                <a:lnTo>
                  <a:pt x="0" y="16200"/>
                </a:lnTo>
                <a:lnTo>
                  <a:pt x="3184" y="10726"/>
                </a:lnTo>
                <a:lnTo>
                  <a:pt x="3184" y="13426"/>
                </a:lnTo>
                <a:arcTo wR="21600" hR="6750" stAng="3870174" swAng="-3404187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531360" y="980640"/>
            <a:ext cx="81867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evenir la violencia en la escuela o en la ciudad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Luchar contra los prejuicios y las discriminaciones sexuales, étnicas y soci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articipar en la creación de reglas de la vida común referentes a la disciplina en la escuela, las sanciones, la apreciación dela conduct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nalizar la relación pedagógica, la autoridad y la comunicación en la clas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el sentido de la responsabilidad, la solidaridad y el sentimiento de justici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2" name="3 Rectángulo"/>
          <p:cNvSpPr/>
          <p:nvPr/>
        </p:nvSpPr>
        <p:spPr>
          <a:xfrm>
            <a:off x="539640" y="349200"/>
            <a:ext cx="820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9. Enfrentar los deberes y los dilemas éticos de la profes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547640" y="5022720"/>
            <a:ext cx="2232360" cy="1621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2"/>
          <a:stretch/>
        </p:blipFill>
        <p:spPr>
          <a:xfrm>
            <a:off x="5292720" y="5022720"/>
            <a:ext cx="1808280" cy="1611360"/>
          </a:xfrm>
          <a:prstGeom prst="rect">
            <a:avLst/>
          </a:prstGeom>
          <a:ln w="0">
            <a:noFill/>
          </a:ln>
        </p:spPr>
      </p:pic>
      <p:sp>
        <p:nvSpPr>
          <p:cNvPr id="455" name="4 Flecha curvada hacia la izquierda"/>
          <p:cNvSpPr/>
          <p:nvPr/>
        </p:nvSpPr>
        <p:spPr>
          <a:xfrm>
            <a:off x="7956720" y="5950080"/>
            <a:ext cx="502920" cy="431640"/>
          </a:xfrm>
          <a:custGeom>
            <a:avLst/>
            <a:gdLst>
              <a:gd name="textAreaLeft" fmla="*/ 67320 w 502920"/>
              <a:gd name="textAreaRight" fmla="*/ 435600 w 502920"/>
              <a:gd name="textAreaTop" fmla="*/ 67320 h 431640"/>
              <a:gd name="textAreaBottom" fmla="*/ 3103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5662"/>
                <a:lnTo>
                  <a:pt x="4629" y="21443"/>
                </a:lnTo>
                <a:lnTo>
                  <a:pt x="0" y="16200"/>
                </a:lnTo>
                <a:lnTo>
                  <a:pt x="4629" y="10643"/>
                </a:lnTo>
                <a:lnTo>
                  <a:pt x="4629" y="13343"/>
                </a:lnTo>
                <a:arcTo wR="21600" hR="6750" stAng="3295662" swAng="-282967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6960" y="299736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Saber explicar sus pr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un control de competencias y un programa personal de formación continú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Negociar un proyecto de formación común con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se en la tareas a nivel general de la enseñanza o sistema educativ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ceptar y participar en la formación de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7" name="3 Rectángulo"/>
          <p:cNvSpPr/>
          <p:nvPr/>
        </p:nvSpPr>
        <p:spPr>
          <a:xfrm>
            <a:off x="187560" y="549360"/>
            <a:ext cx="8532360" cy="5205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10. Administrar sus propia formación continúa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1258920" y="322200"/>
            <a:ext cx="6626160" cy="6308640"/>
          </a:xfrm>
          <a:prstGeom prst="rect">
            <a:avLst/>
          </a:prstGeom>
          <a:ln w="0">
            <a:noFill/>
          </a:ln>
        </p:spPr>
      </p:pic>
      <p:sp>
        <p:nvSpPr>
          <p:cNvPr id="460" name="3 CuadroTexto"/>
          <p:cNvSpPr/>
          <p:nvPr/>
        </p:nvSpPr>
        <p:spPr>
          <a:xfrm>
            <a:off x="2484360" y="263700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CAMBIEMOS DE ACTITUD: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¡QUE TENGAN MUY BUEN DÍA!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3565440" y="549360"/>
            <a:ext cx="5413320" cy="25178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4076280"/>
            <a:ext cx="67788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dfe6d0"/>
                </a:solidFill>
                <a:latin typeface="Tw Cen MT"/>
              </a:rPr>
              <a:t>        </a:t>
            </a:r>
            <a:endParaRPr b="0" lang="en-US" sz="8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Si quieres cambiar al mundo, cámbiate a ti mismo” (Mahatma Gandhi)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5" name="Picture 2" descr="C:\Users\ch@rmin\AppData\Local\Microsoft\Windows\Temporary Internet Files\Content.IE5\A2RJIVVW\MC900435410[1].wmf"/>
          <p:cNvPicPr/>
          <p:nvPr/>
        </p:nvPicPr>
        <p:blipFill>
          <a:blip r:embed="rId2"/>
          <a:stretch/>
        </p:blipFill>
        <p:spPr>
          <a:xfrm>
            <a:off x="6980400" y="3357720"/>
            <a:ext cx="1488960" cy="1854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C:\Users\ch@rmin\AppData\Local\Microsoft\Windows\Temporary Internet Files\Content.IE5\6KDBY9K4\MP900409048[1].jpg"/>
          <p:cNvPicPr/>
          <p:nvPr/>
        </p:nvPicPr>
        <p:blipFill>
          <a:blip r:embed="rId3"/>
          <a:stretch/>
        </p:blipFill>
        <p:spPr>
          <a:xfrm>
            <a:off x="1258920" y="1989000"/>
            <a:ext cx="2952720" cy="196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1 Título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1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Un alumno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competente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no es aquel que sabe más en teoría, sino aquel que pone el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práctica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lo que ha aprendido adelantándose siempre a lo que es obvio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9" name="Picture 2" descr="C:\Users\ch@rmin\AppData\Local\Microsoft\Windows\Temporary Internet Files\Content.IE5\A2RJIVVW\MC900343353[1].wmf"/>
          <p:cNvPicPr/>
          <p:nvPr/>
        </p:nvPicPr>
        <p:blipFill>
          <a:blip r:embed="rId2"/>
          <a:stretch/>
        </p:blipFill>
        <p:spPr>
          <a:xfrm>
            <a:off x="3132000" y="3573360"/>
            <a:ext cx="302436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1 Título" descr=""/>
          <p:cNvPicPr/>
          <p:nvPr/>
        </p:nvPicPr>
        <p:blipFill>
          <a:blip r:embed="rId1"/>
          <a:stretch/>
        </p:blipFill>
        <p:spPr>
          <a:xfrm>
            <a:off x="73080" y="219240"/>
            <a:ext cx="9028080" cy="1712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C:\Users\ch@rmin\AppData\Local\Microsoft\Windows\Temporary Internet Files\Content.IE5\A2RJIVVW\MP900409335[1].jpg"/>
          <p:cNvPicPr/>
          <p:nvPr/>
        </p:nvPicPr>
        <p:blipFill>
          <a:blip r:embed="rId2"/>
          <a:stretch/>
        </p:blipFill>
        <p:spPr>
          <a:xfrm>
            <a:off x="1258920" y="1628640"/>
            <a:ext cx="6589800" cy="439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El cambio en los paradigmas educativos actuales (RIEB), genera un cambio en los docentes”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979640" y="2557440"/>
            <a:ext cx="526248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05" name="4 Marcador de contenido" descr=""/>
          <p:cNvPicPr/>
          <p:nvPr/>
        </p:nvPicPr>
        <p:blipFill>
          <a:blip r:embed="rId2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 docentes don un cúmulo de habilidades, conocimientos y procesos orientados a lograr un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desempeño óptimo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adecuado en el área educativa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s docentes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son varias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cada una exige un dominio y desarrollo alto para ser capaz de enfrentar las situaciones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4249800" cy="2592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4670280" y="3645000"/>
            <a:ext cx="4294440" cy="2573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18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68000" y="2276280"/>
            <a:ext cx="8218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1" name="3 Rectángulo" descr=""/>
          <p:cNvPicPr/>
          <p:nvPr/>
        </p:nvPicPr>
        <p:blipFill>
          <a:blip r:embed="rId2"/>
          <a:stretch/>
        </p:blipFill>
        <p:spPr>
          <a:xfrm>
            <a:off x="469800" y="262080"/>
            <a:ext cx="8491680" cy="3133440"/>
          </a:xfrm>
          <a:prstGeom prst="rect">
            <a:avLst/>
          </a:prstGeom>
          <a:ln w="0">
            <a:noFill/>
          </a:ln>
        </p:spPr>
      </p:pic>
      <p:pic>
        <p:nvPicPr>
          <p:cNvPr id="412" name="4 Rectángulo" descr=""/>
          <p:cNvPicPr/>
          <p:nvPr/>
        </p:nvPicPr>
        <p:blipFill>
          <a:blip r:embed="rId3"/>
          <a:stretch/>
        </p:blipFill>
        <p:spPr>
          <a:xfrm>
            <a:off x="3633840" y="3121200"/>
            <a:ext cx="526104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1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C:\Users\ch@rmin\AppData\Local\Microsoft\Windows\Temporary Internet Files\Content.IE5\A2RJIVVW\MC900434901[1].png"/>
          <p:cNvPicPr/>
          <p:nvPr/>
        </p:nvPicPr>
        <p:blipFill>
          <a:blip r:embed="rId2"/>
          <a:stretch/>
        </p:blipFill>
        <p:spPr>
          <a:xfrm>
            <a:off x="6732720" y="3141720"/>
            <a:ext cx="2286000" cy="2789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3" action="ppaction://hlinksldjump"/>
              </a:rPr>
              <a:t>Organizar y dirigir situaciones de aprendizaje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4" action="ppaction://hlinksldjump"/>
              </a:rPr>
              <a:t>Administrar la progresión de aprendizaj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5" action="ppaction://hlinksldjump"/>
              </a:rPr>
              <a:t>Concebir y hacer evolucionar los dispositivos de diferenciac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6" action="ppaction://hlinksldjump"/>
              </a:rPr>
              <a:t>Envolver a los alumnos en sus aprendizajes y en su trabaj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7" action="ppaction://hlinksldjump"/>
              </a:rPr>
              <a:t>Trabajar en equip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8" action="ppaction://hlinksldjump"/>
              </a:rPr>
              <a:t>Participar en la administración de la escuela</a:t>
            </a: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9" action="ppaction://hlinksldjump"/>
              </a:rPr>
              <a:t>Informar y envolver a los padr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10" action="ppaction://hlinksldjump"/>
              </a:rPr>
              <a:t>Utilizar nuevas tecnología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Enfrentar los deberes y los dilemas éticos de la profes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Administrar sus propia formación continúa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9:28:58Z</dcterms:created>
  <dc:creator>ch@rmin</dc:creator>
  <dc:description/>
  <dc:language>en-US</dc:language>
  <cp:lastModifiedBy>ch@rmin</cp:lastModifiedBy>
  <dcterms:modified xsi:type="dcterms:W3CDTF">2012-02-19T16:37:23Z</dcterms:modified>
  <cp:revision>28</cp:revision>
  <dc:subject/>
  <dc:title>¡BIENVENIDOS!</dc:title>
</cp:coreProperties>
</file>